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4A2E-2810-49ED-BB9D-7674483F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79F4-343A-46A3-8AFD-A5779265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74B9-3601-45AE-8819-1F06E658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2A2F-7D6E-4A8D-BF82-1D34DBFA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5CDF-B7E3-49C8-9580-5CC52248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55E2-A9F8-4EB6-B0F8-B7F48766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9E8D-8CBB-4867-8037-B3561A64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ED04-586C-4279-A88A-0A39F4DA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D00B-79D7-4621-AA06-4124F4DC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26EF-B686-404A-AE55-F68F615C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B86B-ABED-4E1A-8B61-9EBE6D57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C1AD-4400-4073-9343-E48F832F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65B1-528D-4FB1-B035-C71CB9AB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5AF8-BAD3-4AFA-95F1-2F455502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FCAC-F650-49D8-BD04-45535E2D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526A-3582-4727-95C6-7686106C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0A52-5849-45C1-B596-07F402DE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FC40-0E7F-4578-A0F7-AC75F1A0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1341-2264-4256-A77F-B3790D2D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D574-F497-426A-8DFF-2ACBDB0B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4B43-2FCF-403D-AA77-2C323648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42A6-BE39-43E4-BAFC-2F6A36A7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0AD0-0EFE-4D8B-B52E-3216957D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5069-AE72-4DD0-A5C7-0830D53B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24D9-1979-42F7-B1E0-0332E0162167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32DE-2ABC-4742-B58D-BECA279513D2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  <a:ea typeface="Arial"/>
              </a:rPr>
              <a:t>Trigonometric Functions</a:t>
            </a:r>
            <a:br>
              <a:rPr sz="4800"/>
            </a:br>
            <a:r>
              <a:rPr b="0" lang="en-US" sz="1800" spc="-1" strike="noStrike">
                <a:solidFill>
                  <a:srgbClr val="0d469b"/>
                </a:solidFill>
                <a:latin typeface="Book Antiqua"/>
                <a:ea typeface="Arial"/>
              </a:rPr>
              <a:t>Session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of Trigonometric Functions, T4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mited information about a periodic relationship can sometimes, but not always, reveal other information about that relation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20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Match Me Up!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rs, match each question to the big idea that it is most likely to elic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20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Match Me Up!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 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Share:  Questions to consid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ich questions were easiest / most difficult to map?  Why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857160" indent="-28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common elements are evident in the questions that help students develop understanding of the big ideas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Connect and Practic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rs, choose a specific expectation from the trigonometric functions strand from any Grade 11 or 12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the expectation as a learning goal to support the development of one big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question that would help students to meet the learning go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Connect and Practic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fic Expect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ketch the graphs of y =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n (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x –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 + c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s (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x –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 + c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y applying transformations to the graphs of f(x) = sin x and f(x) = cos x with angles expressed in radians, and state the period, amplitude, and phase shift of the transformed func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Connect and Practic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 Go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pplying transformations to a trigonometric function is similar to applying transformations to other functions.  The effects of such transformations impacts specifically on the domain and range, as well as properties of trigonometric functions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Connect and Practic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four trigonometric functions listed: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200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y = 3 sin2x –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y =  cos                +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– 2 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are most alike ? Why 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700360" y="4189320"/>
                <a:ext cx="9349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979640" y="4869000"/>
                <a:ext cx="176364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519280" y="3460680"/>
                <a:ext cx="9003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e:  Peer Review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oin another set of pairs and exchange your learning goals and questions, and provide feedback for edit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the popsicle stick prompts during the peer re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Consolidation:  Peer Review </a:t>
            </a:r>
            <a:r>
              <a:rPr b="0" lang="en-US" sz="20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your specific expectation, learning goal and question on chart paper and post for sharing with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ore the Big Ideas of Trigonometric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connections between the overall expectations to the big ideas of Trigonometric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actice developing learning goals and open questions based on the big id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elcom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hing that you hope to get out of this breakout session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one success that you have had teaching trigonometric func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urther Consolidat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ased on today’s session, complete your Trigonometric Functions journal, focusing on the prompts that are most meaningful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iven what I have learned today, what ideas are challenging my belief about teaching trigonometric functions?  Why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new learning do I believe has helped me shift my practic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new ideas that I am prepared to implement upon my return to the classroom / board are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ore the Big Ideas of Trigonometric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connections between the overall expectations and the big ideas of Trigonometric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actice developing learning goals and open questions based on the big id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-On:  Four Corne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73664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ur big ideas for trigonometric functions are posted, one in each corner of the ro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 your table, you will find an envelope with overall expectations from various grade 11 and 12 courses, related to trigonometric functions.  Choos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th your expectation, go to the corner that it best connects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Minds-On:  Four Corners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90512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79720" indent="-27972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n your corner, discuss your rational for matching the overall expectation to that big ide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You may change your corner if your discussion made you rethink your choi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When you are ready, post your overall expectation under the big ide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Group Sh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Gallery Wal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-On:  Turn and Tal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905120"/>
            <a:ext cx="8399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oup Share:  Find three new people to work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080" indent="-271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estions to consid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How easy / difficult was it to assign an overall expectation to a big idea? 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Are the overall expectations sufficient to get at the big ideas?  Why or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What role do students’ prior experiences play in the development of their understanding of the big ide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What challenges might you as a teacher face when providing students with learning opportunities that focus on developing understanding of the big ideas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of Trigonometric Functions, T1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8920" y="1905120"/>
            <a:ext cx="8497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igonometric functions can help you to describe and analyze periodic relationships and change using words and symb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of Trigonometric Functions, T2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n a relationship appears to be periodic in nature, then it is appropriate to consider a trigonometric function to model the relation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of Trigonometric Functions, T3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trigonometric function can be represented in multiple ways (numerically, graphically, geometrically and algebraically) and each representation highlights different characteristics or behaviours, and can serve different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Information Systems</cp:lastModifiedBy>
  <dcterms:modified xsi:type="dcterms:W3CDTF">2009-08-18T01:03:46Z</dcterms:modified>
  <cp:revision>144</cp:revision>
  <dc:subject/>
  <dc:title>Slide 1</dc:title>
</cp:coreProperties>
</file>